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7E31-ED95-4152-ADC3-6447303E7D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A660-1129-4871-98C0-E40B3A88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40B608-8902-4B9B-A5E9-61AB6430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88E6A5-60E7-4822-8D8C-AE6AC31E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D8845B-AB2A-4E36-85F8-DEF1A722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4F5140-6741-4EF9-B3AB-8CBCE47C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7B71A9-470B-4C76-8E84-855E9CAC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1C5627-D03D-4A9D-B46F-0A2A0A61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A3F5FA-C981-4AF8-BBBA-1465FED2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373C0D-D6A0-4A7D-848C-B483483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050F98-BCBC-487D-8C2D-6CFB65F2D0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36948-37AB-4ABC-B92D-7A58204A1E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4A16-2F82-492F-801C-5C11E551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C0E06-A539-4AC4-9D87-DE9C990C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36498-11DF-42CF-BA9C-0E81A5A0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FE223-3057-491C-89DC-A819E3E9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7A383-4803-4885-B8C5-95908600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6FD02-4E3F-4A5D-BA6C-E5987914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26AC0-3419-48E1-B156-B0520918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1168A-31C5-4CC8-B9E4-0F46A0BB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24C7B-2FDE-4E7B-A873-70CF1AEB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A20BC-050E-4822-825D-44E06A93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1935A-B3E7-4C8C-ACF8-B40679AF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E13C-BAAE-4CC6-83B1-A52642E7FF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1FBAF-E21F-48AB-96C7-DB9DD601B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42D32B-CFB9-4919-AAA4-6EB4487DD5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91888F-8067-4283-900E-B9635C57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1A8D57-EE3A-4E49-A800-6463C61C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464EDB-BD20-42CC-A1CB-518434DA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9FB107-462E-44AE-80C3-2853444B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8ED2CB-4009-41AB-AE39-E905B201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F98DCF-D4CA-4951-8FBB-EEAF38B5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152E03-8027-445E-90DC-779B2913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8F5F2E-FFE6-4049-BF8F-5C8ECD15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E960B-AFAF-4182-84E2-FB74A217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D32D69-8856-422C-88A2-740604DE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323232-D869-4C55-8275-2096F1BD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746093-DEFF-475D-8B82-1CE62ED9EE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0C8C6-5204-484A-A392-57EBBF8E99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C5624-784F-454E-8D1A-AB145988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937342-53EF-4BD2-9A7D-87CD07E9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529D6-1BF9-4812-B8BE-BEE97190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6E425-28C9-4448-818B-2022A8BA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674AD2-00EB-4740-9D26-A40E45B2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4FC68-23FF-406B-A14F-E3414949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F9ACA-7915-49C0-AC8B-0BDA0A4B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38CF0-9511-48EB-B408-BC3F9E1B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13C642-3A52-4F9C-BC8E-A1A6C0C1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67AB45-C30B-42D7-B348-9539230F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26C96-0501-4A66-81AC-1F40D4B4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B726CB-ED86-4034-B3AA-7A40AAFF84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AA89C-116F-477D-B3DE-607E4AE68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C5F66-4A8C-4F4E-B987-9F7BEE7D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C4185-840E-4683-BE01-FB8765F7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ECDC3-F409-4DA0-87A9-0260B6B4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E1CB7-DCD6-4A0F-8A1E-8E45A2F5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37B38-2342-40CD-9210-E674B3EF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933E8-80D4-431F-87DC-28412A37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CA037D-44AD-48CF-A8ED-85209644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CC77B-7DA0-4123-A0E8-FD107E53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AF37D-85B5-4BC6-947F-A3B066A8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91886-8B03-4F1D-9A9B-51E15B52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2D217-9D3C-4D2B-9ECB-6808DA44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37132-755C-442B-A017-45BD5071F7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E2BE64-AC83-4B1E-A28E-8B8D7823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86F5B-579A-42B4-9BB0-871E6924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DFAF9-AD19-4667-90D7-B9268588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D6885-FC1A-44B0-865B-307E10E8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B9FA7-54A8-4A74-A8DD-C4A70D43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286E7-632F-4B3C-A8AC-2D775F8B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693CC-81C8-458A-A2CA-EB20008F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E4050-7EC1-449E-AB6C-02FEE8FD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014FC-3BE7-4FE8-9BCB-DB13EB77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FB603-7DB5-4709-8C0B-0F4E357D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2B90E-668D-441C-8D13-4B62CF8C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77B68-1A1E-4CF0-9341-34EB40C8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1B8E8-73B1-464C-BC00-1285E498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0D287-519D-4383-8037-5BB68DD73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56933-08AF-4EF6-A884-5A37DF47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13E25-37C0-4EA9-AAB2-688F446F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5CE6B-A786-4883-B065-F1EED5F6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2728F-AE86-4C53-A8E1-6301CEAF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F5439-52E7-4446-826A-D17D9A9C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AF16C-C191-4D4A-8651-953AC2F6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154A8-D296-4669-87DD-AC07B8EA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CC200-69A7-43BE-9836-F179214A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448B8-BBB2-473D-B499-7086F849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605F7-2E5F-42EF-B431-58BEA921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D8572-D215-4FF7-857A-BDC623A8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AD070-36E9-43F6-8317-E5805DAD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10733-E559-4922-B480-3C4D1583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F2DBF-0729-4D66-B2BB-811C5B6B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E5CA4-8563-49EE-BFF8-569299A7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9D8CF-9595-4981-8AE4-92B56343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DDCD5-42AD-41EE-9F60-A1EEEB47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77DEA-A4EE-48E8-8987-BF10AFD3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20764-2960-49D6-B3A0-D775F0D5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E72C4-D538-42C5-AEAD-653C39D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30B41-659B-4066-B521-51F31AFA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359CF-CEBE-40F7-BD98-13F7A071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E7259-53F3-4AA4-8910-B67FAF58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89FEC-F8E5-4E8D-AD1A-29D592C1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4EC3C-D95D-409F-A4D9-5C546260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016FF1-F12F-48F6-8D7D-F8BFA84D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BD1CE-49AB-44C5-8872-11803F3F1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24436-67BA-4E31-A721-075794B9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C9867D-3B63-46F6-9CD1-F378279D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F8FF6-8EE3-410C-BEBD-5B84AC70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CD3DC-4FF7-4A5E-BA7B-F3612C3E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31E56-6FD9-454F-B6B6-E07EB3C6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5627D-059C-4CEF-88DB-0DEF58D7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FC309-E4A0-48E3-881C-B3783128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7E517-913E-402B-9E78-354E9720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1C0A7-A362-45C5-B10F-09DD1BCE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D5922-6D8B-4A7F-8FDA-EF5010F3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76B17-EB07-41A1-A5DB-BA784692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0797E3-3FAA-49AE-8687-F0CD1F79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50640-F2D5-4BED-8AB2-E10DDA86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F5323A-56F8-49C6-BB71-72F8D009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277C0-E8EC-4EBF-B9BF-4F5E118E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E9C39-48D4-4CC3-8AF4-E818B082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4BC19-A44A-46AD-ADE1-B9C10544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C050B-7168-4E4A-A5DB-C7F3771F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56B2F-D393-4214-A154-9EA6DB7E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AA1AF4-FAE5-4B28-AD69-0E133BD6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827815-919D-446A-86D0-A8E57A53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2B1AC-1F37-44C0-9723-2D5F698B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FBF28-FA47-40BC-A6E8-429D4660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37F31-287C-4122-A82E-1AFBCEDB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6BC31-C3B2-4DD3-92B9-65CBBE66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B2C84-2355-4E36-BE7B-1A4BB8BD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255FD8-57DD-4DB8-83DB-131C042C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9F9AC-3B0A-41F5-AB12-80435B59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F3364A-2CEF-4B56-B440-A044FD47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3557C-9C84-44C8-A45B-ADFD52B3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BC621C-3E83-44D2-B03B-B850C9D2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50584-4FE1-42C2-B5E5-9F995C26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6EB5E-5854-45FD-A8F3-20684450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17FC21-E755-43C6-B1A2-D9A3AC44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1BEB20-F8F5-4A8B-8DE1-A6D57EE6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5B4F3C-5B02-4627-A29E-BFADD7D9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D785E-6EE2-4A6E-8280-B2BD9D87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1FE23-C465-4DF2-A3DF-0944C139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7A73B-A54E-4407-B9E3-F01A136D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54E08-704B-44D9-9173-131581DB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2DC64-74E1-4F2A-BBD9-585145A6A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AAB9E-754B-4939-BD23-BC333815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65A9C2-3425-4104-8489-0F45E7A5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D56632-AE94-4F04-86BB-02C7AB02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424C5-75C8-453F-8A28-A87B09DF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E508A6-2C18-4911-8631-C2C2C6A6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131479-7933-44E7-ACAA-C19E6101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B694D-64AC-4306-AE52-C4B91D68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2DEAC1-1345-4909-90E0-A804D0C7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BDE026-9BF8-4013-BAB4-91D75172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B36AA7-954F-48BD-9466-0FDE725C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F1EB4-D69D-46A0-B4F6-369B10B9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D740F-F0A8-4E0D-9D71-09C29AD0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4C9751-3E3F-4509-BFA2-8FD58536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B73B2-9767-481D-AA3A-94FAB9A4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FA2B0-3D0D-4B1A-9328-33D2E8AB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3842AC-72D1-4AC2-BEBC-D01E52F3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55DFE-904A-4A4A-BD9F-788204EC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9543F4-56BD-488C-B801-B53A8CE9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F98A08-4A8D-4E30-B220-32C896B3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40335-ED46-4FA5-AD27-7129D332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7E856-60A1-45EB-AF73-5EAD752F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B420CD-7EBE-4915-B60F-8CE0459150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CF493A-4D12-4197-91DC-BAC729D8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66E0A-1A74-430C-AB16-E86AE5C5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2AEB6A-9645-4101-AE2D-CDE5A45A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E1CDFE-5B8D-4A7A-98D3-FDCC442B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177BE5-FBEC-46BD-A017-2D9C59F2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62C75-CD20-492E-9DA6-97B6C7DF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98F77-A7EE-47DD-9A4E-5CFE8A1D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E834A6-483D-4FBB-A2DF-52853E9E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BCC281-8709-4098-8D98-52764B47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96EE2-FFC3-4F30-8784-15F0586A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BACF22-3535-48F3-A5BC-0F213481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E4D4E-D4DA-4652-AE27-64D90156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EC8BBE-33FB-4C45-AD55-9AD5280C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4D34EF-3D83-463C-B783-9E68C819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8FCE07-5D6D-4A55-B9B3-AB9207E80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3D4046-53DE-4370-A345-00B49459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B2C0A7-4CBE-407E-9CD2-E85A178A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578FFB-651A-4DC5-932F-1FEFFC36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DE4774-2E60-406C-A770-79C99F33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8E518-134E-44B4-B480-139A3D26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E10D2-1429-49FD-933A-E96FE963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F70417-2CF5-4533-A9E3-3577ADF4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5D009-EC05-403A-B3B3-ACA33E4E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E0B18A-8C5F-4129-9A8F-FF90B0A7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CAFCA-4F8A-49EE-9815-939777AA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0EAFE4-C758-4CA3-A963-13813B1B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FB9D9-232E-4923-B98C-48EA93FE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7B223-FA63-4F95-A6EF-FFA424DD8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E8D45-A472-48D6-AADA-EBACE4A1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B7D8FD-B32A-4FB4-9C40-A841D4B8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9ABDD-8BF8-4359-9C5B-FB099192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E34F89-96D5-4200-99A8-5F69CE8B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50991-DF37-42F3-8448-9C20CC6C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444144-F569-461E-8C23-F79CBB35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6D15B1-8161-4F17-A584-A38C6A5C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7B2B0-E765-40F6-8BC8-068854FB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95E213-A525-47A0-AACB-E2F0B643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8B90F-26F7-40C8-93B2-3ACFB06A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16162D-F8BC-4223-BE64-1DF3122A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28EFAC-BE05-49C4-8391-FEA4AFBE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B38251-F358-4693-9248-A6672B9F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764626-FE9A-4728-8B6D-9636268B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70ECBB-E81F-4CD5-B8B6-CD7E6C95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CAC0A-71E9-4904-B2BE-9019FC3F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F1337-C196-47B8-914F-E844EA63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4AD10B-FB9F-4892-B6C5-9E3CD1C9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5C2165-8299-4085-8883-ECC96F9A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1714CC-F525-45F7-A9C1-9BCD254A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2EE082-3D8B-4D6A-9276-0B938E8E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496A7-A174-4C41-A087-F25EC15E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BBAF4B-E27B-4FD4-BD2F-41EF484C41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E7B91-FA50-474B-9B47-0706DBBA08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5143-E3D5-4C98-9AE9-923C1639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B0D23-1E88-4770-B37B-12C032AF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F0FA-096D-431F-B7E2-9C38AC9B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FDDD9-A14C-4C5B-8509-BD4A4CCD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E1D9-086A-4D5C-896A-EA998B988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F40F-57D8-41DC-9186-18801A33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569D-0B98-445C-9C1E-42F072CD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B87D-50A4-43B8-A43E-6E78E325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45FE8-E6C4-4EFC-BE3C-2DFC4771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9C963-C886-4F93-BAA5-DC5C9666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2A56C-C283-42E7-8BC1-6DD2405F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2D84F-C86B-467D-9B1A-A86C7F277A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446992-FBAE-45F4-9D2C-9E3B141890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FCB82-83F7-4AD4-BC9A-36040A9E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486793-69D6-48D9-9627-4CC810AA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9079C7-3579-476C-91BC-FD0AEED7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BFC26-30CF-4CEE-97D7-B210EC3E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FF4793-412E-45E1-88AF-152FF135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AA05BD-07C0-4622-808F-01AA7D55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BF92FB-39CC-4457-AA95-42B551A2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CA5932-CB47-47F4-9AED-A60CFC96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DE8DBE-E6FA-4774-8EC3-9E3A3B55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62524-0DA2-4463-9B1C-30A5BC9B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CEAAA-94A7-4CAF-8CA5-7B0FCEEF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3B26-6924-47AC-84C5-776F9537D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6627B-D603-494C-8F6E-E2A48D42EC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B41140-7DBA-44B0-8B6B-C227EC1122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4D264C-27C0-4768-8037-BD4848AB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86E67B-FB06-4446-A696-7D2081F1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78F803-9E1A-4BBC-88D7-A9D20C85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5B0B51-45CB-482C-8970-0EB6F384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5BF095-1E14-45A8-AAC9-7E1A6B9F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F67066-0764-43BC-BE26-EAE02A16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B55240-9F1E-4698-961B-F53A0AA7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633AD8-0D9E-43A7-B0D0-2CD49C65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9AB0-6F32-44B1-8E53-A7EF46AB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6D37C-AD2C-4C9D-B807-68B73C27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82A7DB-6182-4853-86CC-A0CE964D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FF413D-7F88-4B43-9DC3-02C7C05342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F0BEA-F4E7-4A33-8AD6-E98FC24264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19ADA-929E-438E-965E-8D887700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3C2E3-C058-422F-B78F-167B7EE2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D748A-CCA6-4E92-AD6B-CA019330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20F55-0EF4-4AF8-858B-73C90B2C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5BCBC-8D6F-46EE-9166-BD85D41F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D815B-79A7-4E46-ACBF-9603C956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BF972-758D-490D-9B74-5AB151D5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77243-61D4-4D09-AA7F-8E4D2011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E4640-0DF0-4672-9299-96204D96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3E452-C192-4B90-BFA4-4CC71684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50841-2D6A-40B1-9C87-6B309050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7D371-5BE1-4210-81D9-73EBED4760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A86B2-E718-4546-8548-C45390AAE8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40562-23B4-45C4-9661-75DB8D75E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1CC63-02DB-4CF3-82EF-CF2FC8F2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89A346-664D-4D4A-8484-7F2847AD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DECD73-8C6A-4367-A03E-E3CC0005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78BED-5B21-4417-9878-F1CCEF0A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1F2D40-D94F-4C24-B338-95125A84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FA6BD-4C69-408F-8F1B-89892B07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0206A-BCF4-4A16-A842-F5FE30BD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1E9763-3714-4E8A-9088-571C0C9E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70819-37EA-4555-9286-5AA6EC75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D648C-8B7D-4C86-962D-5CF780E4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7FD5B-41D7-4FA8-8441-EFD51CAAA3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F4F3E2-261F-41B1-82DD-188ECB7679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DFA8D6-D1A8-4977-A6B1-A9A66FEB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FCC7CF-6B66-489A-A1BF-F0DF4F70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277C-E223-4571-8761-4AA1DD82FF6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5AEE-CC90-4F33-B9A0-F1E21DB6A33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166E-7448-4877-8694-EC946D784F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DF25-981C-4530-8657-37C8D86ECEF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F95B-50DF-4C00-BE00-BDFF0FF9F2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E2C2-38CA-47D4-9307-7CEAF97BB4B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646-3532-4A4A-B7A6-73C77E17E5F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D4DF-86F4-431A-A225-A51EA54C7E6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5520-ED99-4D22-8D35-69395FEE26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7FB4-411A-41EF-8AF2-72BB05126D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594E-523B-45F5-BB05-D07EC04E95B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38FC-8041-4791-9E89-9837DA0E9B7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DCED-FD42-491C-9EA7-BCBB8F10FCB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C5C4-3940-4002-AF4E-7C7CDC82542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2F62-7BE8-4320-933F-B461427DFA0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37B7-2AA2-4B64-9045-026CB44E884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D68B-653F-40A7-8D7B-5631F7429A9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2CFA-3CA7-4086-800F-DA47D580C71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96FD-5426-4253-8E0B-FDE68483782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9F5D-5764-4072-89B4-1531F48CE1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B757-1DAA-404A-8EC2-11B0A94F14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14C2-0F74-4092-ADAE-9FB7D1DCB52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416F-E2E3-428C-B911-0D5CCD56C2C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7212-E2AB-4DC7-9A36-0F9E2728F81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716200" y="2770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加 法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790880" cy="360"/>
            <a:chOff x="2284560" y="2448000"/>
            <a:chExt cx="47908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790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79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777960" y="181620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1~5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4097"/>
          <p:cNvSpPr/>
          <p:nvPr/>
        </p:nvSpPr>
        <p:spPr>
          <a:xfrm>
            <a:off x="2816280" y="4556160"/>
            <a:ext cx="21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3 + 1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图片 4098" descr="2_6"/>
          <p:cNvPicPr/>
          <p:nvPr/>
        </p:nvPicPr>
        <p:blipFill>
          <a:blip r:embed="rId1"/>
          <a:stretch/>
        </p:blipFill>
        <p:spPr>
          <a:xfrm>
            <a:off x="4788000" y="2914560"/>
            <a:ext cx="1252440" cy="330120"/>
          </a:xfrm>
          <a:prstGeom prst="rect">
            <a:avLst/>
          </a:prstGeom>
          <a:ln w="0">
            <a:noFill/>
          </a:ln>
        </p:spPr>
      </p:pic>
      <p:sp>
        <p:nvSpPr>
          <p:cNvPr id="1000" name="矩形 4099"/>
          <p:cNvSpPr/>
          <p:nvPr/>
        </p:nvSpPr>
        <p:spPr>
          <a:xfrm>
            <a:off x="4741920" y="4599000"/>
            <a:ext cx="35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读作：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加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等于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4100" descr="p-023-4"/>
          <p:cNvPicPr/>
          <p:nvPr/>
        </p:nvPicPr>
        <p:blipFill>
          <a:blip r:embed="rId2"/>
          <a:stretch/>
        </p:blipFill>
        <p:spPr>
          <a:xfrm>
            <a:off x="5911920" y="1293840"/>
            <a:ext cx="2566800" cy="2228760"/>
          </a:xfrm>
          <a:prstGeom prst="rect">
            <a:avLst/>
          </a:prstGeom>
          <a:ln w="0">
            <a:noFill/>
          </a:ln>
        </p:spPr>
      </p:pic>
      <p:pic>
        <p:nvPicPr>
          <p:cNvPr id="1002" name="图片 4101" descr="p-023-3"/>
          <p:cNvPicPr/>
          <p:nvPr/>
        </p:nvPicPr>
        <p:blipFill>
          <a:blip r:embed="rId3"/>
          <a:stretch/>
        </p:blipFill>
        <p:spPr>
          <a:xfrm>
            <a:off x="779400" y="1201680"/>
            <a:ext cx="4008600" cy="2320920"/>
          </a:xfrm>
          <a:prstGeom prst="rect">
            <a:avLst/>
          </a:prstGeom>
          <a:ln w="0">
            <a:noFill/>
          </a:ln>
        </p:spPr>
      </p:pic>
      <p:sp>
        <p:nvSpPr>
          <p:cNvPr id="1003" name="矩形 4102"/>
          <p:cNvSpPr/>
          <p:nvPr/>
        </p:nvSpPr>
        <p:spPr>
          <a:xfrm rot="5340000">
            <a:off x="3149640" y="5048640"/>
            <a:ext cx="5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矩形 4103"/>
          <p:cNvSpPr/>
          <p:nvPr/>
        </p:nvSpPr>
        <p:spPr>
          <a:xfrm>
            <a:off x="2948040" y="562752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加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组合 4104"/>
          <p:cNvGrpSpPr/>
          <p:nvPr/>
        </p:nvGrpSpPr>
        <p:grpSpPr>
          <a:xfrm>
            <a:off x="2817720" y="3639960"/>
            <a:ext cx="4378320" cy="916200"/>
            <a:chOff x="2817720" y="3639960"/>
            <a:chExt cx="4378320" cy="916200"/>
          </a:xfrm>
        </p:grpSpPr>
        <p:sp>
          <p:nvSpPr>
            <p:cNvPr id="1006" name="圆角矩形 4105"/>
            <p:cNvSpPr/>
            <p:nvPr/>
          </p:nvSpPr>
          <p:spPr>
            <a:xfrm>
              <a:off x="2817720" y="3639960"/>
              <a:ext cx="4378320" cy="9162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直接连接符 4106"/>
            <p:cNvSpPr/>
            <p:nvPr/>
          </p:nvSpPr>
          <p:spPr>
            <a:xfrm>
              <a:off x="5825160" y="3639960"/>
              <a:ext cx="360" cy="916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椭圆 4107"/>
            <p:cNvSpPr/>
            <p:nvPr/>
          </p:nvSpPr>
          <p:spPr>
            <a:xfrm>
              <a:off x="2949120" y="3800520"/>
              <a:ext cx="567000" cy="557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椭圆 4108"/>
            <p:cNvSpPr/>
            <p:nvPr/>
          </p:nvSpPr>
          <p:spPr>
            <a:xfrm>
              <a:off x="3882960" y="3800520"/>
              <a:ext cx="566640" cy="557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椭圆 4109"/>
            <p:cNvSpPr/>
            <p:nvPr/>
          </p:nvSpPr>
          <p:spPr>
            <a:xfrm>
              <a:off x="4789080" y="3800520"/>
              <a:ext cx="567000" cy="557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椭圆 4110"/>
            <p:cNvSpPr/>
            <p:nvPr/>
          </p:nvSpPr>
          <p:spPr>
            <a:xfrm>
              <a:off x="6270840" y="3800520"/>
              <a:ext cx="567000" cy="557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5121" descr="2_6"/>
          <p:cNvPicPr/>
          <p:nvPr/>
        </p:nvPicPr>
        <p:blipFill>
          <a:blip r:embed="rId1"/>
          <a:stretch/>
        </p:blipFill>
        <p:spPr>
          <a:xfrm>
            <a:off x="4357800" y="2195640"/>
            <a:ext cx="863640" cy="245880"/>
          </a:xfrm>
          <a:prstGeom prst="rect">
            <a:avLst/>
          </a:prstGeom>
          <a:ln w="0">
            <a:noFill/>
          </a:ln>
        </p:spPr>
      </p:pic>
      <p:sp>
        <p:nvSpPr>
          <p:cNvPr id="1013" name="矩形 5122"/>
          <p:cNvSpPr/>
          <p:nvPr/>
        </p:nvSpPr>
        <p:spPr>
          <a:xfrm>
            <a:off x="3203640" y="5216400"/>
            <a:ext cx="2592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加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等于 </a:t>
            </a:r>
            <a:r>
              <a:rPr b="1" lang="en-US" sz="32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矩形 5123"/>
          <p:cNvSpPr/>
          <p:nvPr/>
        </p:nvSpPr>
        <p:spPr>
          <a:xfrm>
            <a:off x="3317760" y="3754440"/>
            <a:ext cx="7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5124"/>
          <p:cNvGrpSpPr/>
          <p:nvPr/>
        </p:nvGrpSpPr>
        <p:grpSpPr>
          <a:xfrm>
            <a:off x="3711600" y="4489560"/>
            <a:ext cx="577080" cy="764280"/>
            <a:chOff x="3711600" y="4489560"/>
            <a:chExt cx="577080" cy="764280"/>
          </a:xfrm>
        </p:grpSpPr>
        <p:sp>
          <p:nvSpPr>
            <p:cNvPr id="1016" name="矩形 5125"/>
            <p:cNvSpPr/>
            <p:nvPr/>
          </p:nvSpPr>
          <p:spPr>
            <a:xfrm>
              <a:off x="3830040" y="4489560"/>
              <a:ext cx="2995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5126"/>
            <p:cNvSpPr/>
            <p:nvPr/>
          </p:nvSpPr>
          <p:spPr>
            <a:xfrm>
              <a:off x="3711600" y="4645080"/>
              <a:ext cx="57708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加号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矩形 5127"/>
          <p:cNvSpPr/>
          <p:nvPr/>
        </p:nvSpPr>
        <p:spPr>
          <a:xfrm>
            <a:off x="3751200" y="3754440"/>
            <a:ext cx="6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5128"/>
          <p:cNvSpPr/>
          <p:nvPr/>
        </p:nvSpPr>
        <p:spPr>
          <a:xfrm>
            <a:off x="4629240" y="3754440"/>
            <a:ext cx="6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5129"/>
          <p:cNvSpPr/>
          <p:nvPr/>
        </p:nvSpPr>
        <p:spPr>
          <a:xfrm>
            <a:off x="5092560" y="3754440"/>
            <a:ext cx="5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5130"/>
          <p:cNvSpPr/>
          <p:nvPr/>
        </p:nvSpPr>
        <p:spPr>
          <a:xfrm>
            <a:off x="4213080" y="3754440"/>
            <a:ext cx="5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组合 5131"/>
          <p:cNvGrpSpPr/>
          <p:nvPr/>
        </p:nvGrpSpPr>
        <p:grpSpPr>
          <a:xfrm>
            <a:off x="4662720" y="4489560"/>
            <a:ext cx="577080" cy="764280"/>
            <a:chOff x="4662720" y="4489560"/>
            <a:chExt cx="577080" cy="764280"/>
          </a:xfrm>
        </p:grpSpPr>
        <p:sp>
          <p:nvSpPr>
            <p:cNvPr id="1023" name="矩形 5132"/>
            <p:cNvSpPr/>
            <p:nvPr/>
          </p:nvSpPr>
          <p:spPr>
            <a:xfrm>
              <a:off x="4772520" y="4489560"/>
              <a:ext cx="2995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矩形 5133"/>
            <p:cNvSpPr/>
            <p:nvPr/>
          </p:nvSpPr>
          <p:spPr>
            <a:xfrm>
              <a:off x="4662720" y="4645080"/>
              <a:ext cx="57708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等号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5" name="图片 5134" descr="p-023"/>
          <p:cNvPicPr/>
          <p:nvPr/>
        </p:nvPicPr>
        <p:blipFill>
          <a:blip r:embed="rId2"/>
          <a:stretch/>
        </p:blipFill>
        <p:spPr>
          <a:xfrm>
            <a:off x="709560" y="1262160"/>
            <a:ext cx="3430800" cy="212400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5135" descr="p-023-2"/>
          <p:cNvPicPr/>
          <p:nvPr/>
        </p:nvPicPr>
        <p:blipFill>
          <a:blip r:embed="rId3"/>
          <a:stretch/>
        </p:blipFill>
        <p:spPr>
          <a:xfrm>
            <a:off x="4932360" y="1231920"/>
            <a:ext cx="343044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内容占位符 6145" descr="02[1]"/>
          <p:cNvPicPr/>
          <p:nvPr/>
        </p:nvPicPr>
        <p:blipFill>
          <a:blip r:embed="rId1"/>
          <a:stretch/>
        </p:blipFill>
        <p:spPr>
          <a:xfrm>
            <a:off x="2876400" y="907920"/>
            <a:ext cx="32004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内容占位符 7169" descr="P-019-2"/>
          <p:cNvPicPr/>
          <p:nvPr/>
        </p:nvPicPr>
        <p:blipFill>
          <a:blip r:embed="rId1"/>
          <a:stretch/>
        </p:blipFill>
        <p:spPr>
          <a:xfrm>
            <a:off x="804960" y="2583000"/>
            <a:ext cx="1303200" cy="1160280"/>
          </a:xfrm>
          <a:prstGeom prst="rect">
            <a:avLst/>
          </a:prstGeom>
          <a:ln w="0">
            <a:noFill/>
          </a:ln>
        </p:spPr>
      </p:pic>
      <p:pic>
        <p:nvPicPr>
          <p:cNvPr id="1029" name="内容占位符 7170" descr="P-019-2"/>
          <p:cNvPicPr/>
          <p:nvPr/>
        </p:nvPicPr>
        <p:blipFill>
          <a:blip r:embed="rId2"/>
          <a:stretch/>
        </p:blipFill>
        <p:spPr>
          <a:xfrm>
            <a:off x="2387520" y="2583000"/>
            <a:ext cx="1305000" cy="1160280"/>
          </a:xfrm>
          <a:prstGeom prst="rect">
            <a:avLst/>
          </a:prstGeom>
          <a:ln w="0">
            <a:noFill/>
          </a:ln>
        </p:spPr>
      </p:pic>
      <p:pic>
        <p:nvPicPr>
          <p:cNvPr id="1030" name="内容占位符 7171" descr="P-019-2"/>
          <p:cNvPicPr/>
          <p:nvPr/>
        </p:nvPicPr>
        <p:blipFill>
          <a:blip r:embed="rId3"/>
          <a:stretch/>
        </p:blipFill>
        <p:spPr>
          <a:xfrm>
            <a:off x="3924360" y="2583000"/>
            <a:ext cx="1305000" cy="1160280"/>
          </a:xfrm>
          <a:prstGeom prst="rect">
            <a:avLst/>
          </a:prstGeom>
          <a:ln w="0">
            <a:noFill/>
          </a:ln>
        </p:spPr>
      </p:pic>
      <p:sp>
        <p:nvSpPr>
          <p:cNvPr id="1031" name="矩形 7172"/>
          <p:cNvSpPr/>
          <p:nvPr/>
        </p:nvSpPr>
        <p:spPr>
          <a:xfrm>
            <a:off x="200160" y="1201680"/>
            <a:ext cx="61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摆，再说算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内容占位符 7173" descr="P-019-2"/>
          <p:cNvPicPr/>
          <p:nvPr/>
        </p:nvPicPr>
        <p:blipFill>
          <a:blip r:embed="rId4"/>
          <a:stretch/>
        </p:blipFill>
        <p:spPr>
          <a:xfrm>
            <a:off x="5516640" y="2583000"/>
            <a:ext cx="1305000" cy="116028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7174" descr="P-019-2"/>
          <p:cNvPicPr/>
          <p:nvPr/>
        </p:nvPicPr>
        <p:blipFill>
          <a:blip r:embed="rId5"/>
          <a:stretch/>
        </p:blipFill>
        <p:spPr>
          <a:xfrm>
            <a:off x="7188120" y="2583000"/>
            <a:ext cx="1303560" cy="1160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dc:language>en-US</dc:language>
  <cp:lastModifiedBy>万润仪器贸易公司</cp:lastModifiedBy>
  <dcterms:modified xsi:type="dcterms:W3CDTF">2020-08-18T09:44:33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